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23.jpeg" ContentType="image/jpeg"/>
  <Override PartName="/ppt/media/image12.png" ContentType="image/png"/>
  <Override PartName="/ppt/media/image21.jpeg" ContentType="image/jpeg"/>
  <Override PartName="/ppt/media/chimes.wav" ContentType="audio/x-wav"/>
  <Override PartName="/ppt/media/image19.jpeg" ContentType="image/jpeg"/>
  <Override PartName="/ppt/media/image42.jpeg" ContentType="image/jpeg"/>
  <Override PartName="/ppt/media/image18.jpeg" ContentType="image/jpeg"/>
  <Override PartName="/ppt/media/image15.png" ContentType="image/png"/>
  <Override PartName="/ppt/media/image16.jpeg" ContentType="image/jpeg"/>
  <Override PartName="/ppt/media/laser.wav" ContentType="audio/x-wav"/>
  <Override PartName="/ppt/media/drumroll.wav" ContentType="audio/x-wav"/>
  <Override PartName="/ppt/media/image13.jpeg" ContentType="image/jpeg"/>
  <Override PartName="/ppt/media/image40.jpeg" ContentType="image/jpeg"/>
  <Override PartName="/ppt/media/applause.wav" ContentType="audio/x-wav"/>
  <Override PartName="/ppt/media/image5.png" ContentType="image/png"/>
  <Override PartName="/ppt/media/image43.jpeg" ContentType="image/jpeg"/>
  <Override PartName="/ppt/media/glass.wav" ContentType="audio/x-wav"/>
  <Override PartName="/ppt/media/image20.jpeg" ContentType="image/jpeg"/>
  <Override PartName="/ppt/media/image2.png" ContentType="image/png"/>
  <Override PartName="/ppt/media/image25.jpeg" ContentType="image/jpeg"/>
  <Override PartName="/ppt/media/image17.jpeg" ContentType="image/jpeg"/>
  <Override PartName="/ppt/media/carbrake.wav" ContentType="audio/x-wav"/>
  <Override PartName="/ppt/media/image10.jpeg" ContentType="image/jpeg"/>
  <Override PartName="/ppt/media/image29.jpeg" ContentType="image/jpeg"/>
  <Override PartName="/ppt/media/image24.jpeg" ContentType="image/jpeg"/>
  <Override PartName="/ppt/media/image30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31.jpeg" ContentType="image/jpeg"/>
  <Override PartName="/ppt/media/image26.jpeg" ContentType="image/jpeg"/>
  <Override PartName="/ppt/media/image32.jpeg" ContentType="image/jpeg"/>
  <Override PartName="/ppt/media/image37.jpeg" ContentType="image/jpeg"/>
  <Override PartName="/ppt/media/image38.jpeg" ContentType="image/jpeg"/>
  <Override PartName="/ppt/media/image8.jpeg" ContentType="image/jpeg"/>
  <Override PartName="/ppt/media/image39.jpeg" ContentType="image/jpeg"/>
  <Override PartName="/ppt/media/whoosh.wav" ContentType="audio/x-wav"/>
  <Override PartName="/ppt/media/image28.jpeg" ContentType="image/jpeg"/>
  <Override PartName="/ppt/media/image34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41.jpeg" ContentType="image/jpeg"/>
  <Override PartName="/ppt/media/image14.jpeg" ContentType="image/jpeg"/>
  <Override PartName="/ppt/media/explode.wav" ContentType="audio/x-wav"/>
  <Override PartName="/ppt/media/image6.png" ContentType="image/png"/>
  <Override PartName="/ppt/media/image4.png" ContentType="image/png"/>
  <Override PartName="/ppt/media/image33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9A459-953D-4B0B-A728-6DEFBC9BAAB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h of Cultures and Marching No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h of Cultures and Marching No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ght Makes Right!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zar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rched west coast of South Ame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treasures on in Pe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eated the Inc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lled their leader (Atahualpa) after he demanded all their gold for his rel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ed all silver and gold into ba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ght Makes Right!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zar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rched west coast of South Ame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treasures on in Pe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eated the Inc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lled their leader (Atahualpa) after he demanded all their gold for his rel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ed all silver and gold into ba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4: Gloom, Doom, &amp; Che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nish gave the Indian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ll Pox and Meas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4: Gloom, Doom, &amp; Che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nish gave the Indian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ll Pox and Meas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4: Gloom, Doom, &amp; Che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anish also g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ig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ucat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51-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39-Printing Press to Mexico 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4: Gloom, Doom, &amp; Che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anish also g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ig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ucat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51-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39-Printing Press to Mexico 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4: Gloom, Doom, &amp; Che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nish en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an Sacrif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4: Gloom, Doom, &amp; Che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nish en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an Sacrif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5: North of New Sp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rers search for Cibo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 cities of go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ed by 7 prie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d to be in the no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in Africa or Eur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5: North of New Sp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rers search for Cibo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 cities of go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ed by 7 prie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d to be in the no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in Africa or Eur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teban-sent by the mayor of Mexico City to find Cibola with Fray Marc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of 4 survivors from Narv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ptured by Indians (learned their cultu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lked to Mexico in 8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d to many female followers for Fray Marco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d crosses to show Cibola f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lled when he sent Indians an symbol of w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os went back to Mexico City and said they found Cibo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teban-sent by the mayor of Mexico City to find Cibola with Fray Marc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of 4 survivors from Narv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ptured by Indians (learned their cultu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lked to Mexico in 8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d to many female followers for Fray Marco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d crosses to show Cibola f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lled when he sent Indians an symbol of w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os went back to Mexico City and said they found Cibo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6:Looking for Cibola with Coron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onado: good leader/soldi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40:leaves in search of Cibo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ts to Hawiku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eblo 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ck Indians out and take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go west and discover the Grand Cany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6:Looking for Cibola with Coron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onado: good leader/soldi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40:leaves in search of Cibo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ts to Hawiku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eblo 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ck Indians out and take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go west and discover the Grand Cany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6:Looking for Cibola with Coron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urk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Indian captured by the Span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s sign language to communic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nish assume he’s telling them where the gold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s them to Quivira-city full of mud hu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angled for ly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asn’t the gold and silver were underground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6:Looking for Cibola with Coron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urk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Indian captured by the Span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s sign language to communic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nish assume he’s telling them where the gold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s them to Quivira-city full of mud hu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angled for ly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asn’t the gold and silver were underground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7: California to Flori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40-1549:Spanish looking for Cibola all over! (California/Texas/Florid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39: De Soto- Florida (land of gol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lects 200lbs of pearls on his explo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s in Peru w/Pizar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ok over Indian vill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lls/tortures if they don’t give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survivor from Narv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s the Mississippi 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ed of fever and was buried in the 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7: California to Flori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40-1549:Spanish looking for Cibola all over! (California/Texas/Florid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39: De Soto- Florida (land of gol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lects 200lbs of pearls on his explo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s in Peru w/Pizar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ok over Indian vill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lls/tortures if they don’t give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survivor from Narv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s the Mississippi 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ed of fever and was buried in the 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7: California to Flori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40-Alac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t to reach Californ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iled up the Gulf of California and Colorado River in the Grand Cany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24-Cabrillo (“lil goat”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lieved California was run by Griff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ed being chased by Indi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7: California to Flori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40-Alac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t to reach Californ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iled up the Gulf of California and Colorado River in the Grand Cany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24-Cabrillo (“lil goat”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lieved California was run by Griff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ed being chased by Indi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1: Beliefs and Id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th century~ Roman Catholic and Eastern Orthodox~only Christian relig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th Century~Martin Lu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form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sts 95 complaints against the Catholic Chu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95 Thes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s Protestantis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1: Beliefs and Id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th century~ Roman Catholic and Eastern Orthodox~only Christian relig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th Century~Martin Lu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form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sts 95 complaints against the Catholic Chu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95 Thes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s Protestantis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8:A Place Called Santa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ed in 16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t on a plate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permanent European colony in North West Ame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30-60,000 Indians converted to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istian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8:A Place Called Santa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ed in 16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t on a plate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permanent European colony in North West Ame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30-60,000 Indians converted to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istian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9: Las Casas Car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42-King Charles 1 outlaws Indian slave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s Cas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d an Indian slave as a chi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12-became a priest &amp; owned sl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14-gave his slaves their freed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 1520- established Venezuela (peaceful are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ive Americans and Span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dn’t want to work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9: Las Casas Car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42-King Charles 1 outlaws Indian slave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s Cas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d an Indian slave as a chi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12-became a priest &amp; owned sl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14-gave his slaves their freed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 1520- established Venezuela (peaceful are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ive Americans and Span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dn’t want to work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9: Las Casa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pulve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posed Las Casas opin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ive Americans “needed” Span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aves were g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glish read about Spanis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ll treat Native Americans differen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9: Las Casa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pulve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posed Las Casas opin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ive Americans “needed” Span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aves were g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glish read about Spanis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ll treat Native Americans differen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END!!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END!!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 of Re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ime of change and re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religions forming (Protestantis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u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vel and explo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 of Re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ime of change and re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religions forming (Protestantis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u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vel and explo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rt, Leave, OR be Tortured and Die!!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anish Inqui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en Isabella’s “special” religious cou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slims, Jews, and Pagans would have to convert to Christianit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conversion = leaving Spain or dy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rt, Leave, OR be Tortured and Die!!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anish Inqui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en Isabella’s “special” religious cou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slims, Jews, and Pagans would have to convert to Christianit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conversion = leaving Spain or dy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Sp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nando Cort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t to be a god (Quetzacoatl) by Montezu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veled with 900 peo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k his own ship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hed towards Tenochtitla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Sp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nando Cort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t to be a god (Quetzacoatl) by Montezu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veled with 900 peo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k his own ship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hed towards Tenochtitla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map of the Aztec Emp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map of the Aztec Emp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tez Marches Ah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n’t listen to Montezuma and marches towards Tenochtit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s army as he g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we of 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ing gard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vate Zo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LD!!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tez Marches Ah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n’t listen to Montezuma and marches towards Tenochtit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s army as he g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we of 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ing gard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vate Zo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LD!!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Aztecs f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ontezuma d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uauhtemoc (the new Aztec leader) surrenders to the Span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panish destroy the Aztec cul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name Tenochtit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xico 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Aztecs f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ontezuma d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uauhtemoc (the new Aztec leader) surrenders to the Span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panish destroy the Aztec cul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name Tenochtit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xico 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3: “Might Makes Right!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nce de Le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n &amp; Bloodthirs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quered Puerto R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Flori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s for all its flow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gold in Puerto R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ally shot with a poison arr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dies from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3: “Might Makes Right!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nce de Le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n &amp; Bloodthirs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quered Puerto R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Flori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s for all its flow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gold in Puerto R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ally shot with a poison arr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dies from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DBE1-D6C2-4BFD-A960-DF7BCDF36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B4C8-DABF-4143-8A4C-D332B3D75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4B9A-2207-47B6-9B53-EAF45E36F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1765-6F2A-4C25-8F8C-0D9832E63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02CC3-1DE6-410D-9BC0-F7E83806A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974F6-36D0-4C69-A8D4-AE1D737A1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0922D-22ED-4E21-A9B4-BD286F5B1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309BC-E5BC-4C6B-8C83-922684F21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15078-FB3D-4357-B720-9047A7043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D0093-C569-45D9-ADE9-8C9B2D63E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A63D9-CDC4-40B8-84C1-0E5AFF83B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BDCE-BDB3-43E8-A149-D3BDB3DF5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51529-761F-4F9A-9558-322765FF6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E4B65-402E-41F8-A668-13ACBA762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10291-0103-4BBF-84C6-82E661868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6BE04-46E2-4B53-AAB0-2D06FAE11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E1744-E604-4756-BD83-D58CC1A61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F499-4E3B-43D7-8902-C60A48B8C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0662-9801-4633-B2EC-4F4E96563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EFBB-31EE-4984-89B4-24E1CD2C8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80DE-D4E2-446A-928A-75F6721C0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A541-F11F-4C25-95F2-09296CE73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BAB7-6215-4CBA-8049-17650D568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CACE-E813-402B-B034-8DC8D4B6A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26" descr="Expbanna"/>
          <p:cNvPicPr/>
          <p:nvPr/>
        </p:nvPicPr>
        <p:blipFill>
          <a:blip r:embed="rId3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C6A92-969D-4EA3-8369-9F9F83402A34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1031" descr="EXPHORSA"/>
          <p:cNvPicPr/>
          <p:nvPr/>
        </p:nvPicPr>
        <p:blipFill>
          <a:blip r:embed="rId4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7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44" name="Picture 8" descr="Expbanna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Picture 9" descr="EXPHORSA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6" name="Picture 10" descr="EXPHORSA"/>
          <p:cNvPicPr/>
          <p:nvPr/>
        </p:nvPicPr>
        <p:blipFill>
          <a:blip r:embed="rId5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267C1-6299-4E64-A6BD-EC98F0C11FE8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audio" Target="../media/laser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25.jpeg"/><Relationship Id="rId7" Type="http://schemas.openxmlformats.org/officeDocument/2006/relationships/image" Target="../media/image26.jpeg"/><Relationship Id="rId8" Type="http://schemas.openxmlformats.org/officeDocument/2006/relationships/image" Target="../media/image27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28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30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3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34.jpeg"/><Relationship Id="rId9" Type="http://schemas.openxmlformats.org/officeDocument/2006/relationships/image" Target="../media/image35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32.jpeg"/><Relationship Id="rId8" Type="http://schemas.openxmlformats.org/officeDocument/2006/relationships/image" Target="../media/image36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4.png"/><Relationship Id="rId5" Type="http://schemas.openxmlformats.org/officeDocument/2006/relationships/image" Target="../media/image25.jpeg"/><Relationship Id="rId6" Type="http://schemas.openxmlformats.org/officeDocument/2006/relationships/image" Target="../media/image37.jpeg"/><Relationship Id="rId7" Type="http://schemas.openxmlformats.org/officeDocument/2006/relationships/image" Target="../media/image38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39.jpeg"/><Relationship Id="rId8" Type="http://schemas.openxmlformats.org/officeDocument/2006/relationships/image" Target="../media/image40.jpeg"/><Relationship Id="rId9" Type="http://schemas.openxmlformats.org/officeDocument/2006/relationships/audio" Target="../media/explode.wav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41.jpeg"/><Relationship Id="rId7" Type="http://schemas.openxmlformats.org/officeDocument/2006/relationships/image" Target="../media/image42.jpeg"/><Relationship Id="rId8" Type="http://schemas.openxmlformats.org/officeDocument/2006/relationships/image" Target="../media/image43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9.jpeg"/><Relationship Id="rId7" Type="http://schemas.openxmlformats.org/officeDocument/2006/relationships/audio" Target="../media/explode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png"/><Relationship Id="rId8" Type="http://schemas.openxmlformats.org/officeDocument/2006/relationships/audio" Target="../media/glass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audio" Target="../media/applause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16.jpeg"/><Relationship Id="rId8" Type="http://schemas.openxmlformats.org/officeDocument/2006/relationships/image" Target="../media/image17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audio" Target="../media/glass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18.jpeg"/><Relationship Id="rId8" Type="http://schemas.openxmlformats.org/officeDocument/2006/relationships/image" Target="../media/image19.jpeg"/><Relationship Id="rId9" Type="http://schemas.openxmlformats.org/officeDocument/2006/relationships/audio" Target="../media/drumroll.wav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ash of Cultures and Marching Nor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50532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Might Makes Right!”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izar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arched west coast of South Amer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nd treasures on in Per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eated the In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lled their leader (Atahualpa) after he demanded all their gold for his rel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lted all silver and gold into ba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4" descr="inca"/>
          <p:cNvPicPr/>
          <p:nvPr/>
        </p:nvPicPr>
        <p:blipFill>
          <a:blip r:embed="rId4"/>
          <a:stretch/>
        </p:blipFill>
        <p:spPr>
          <a:xfrm>
            <a:off x="6629400" y="4343400"/>
            <a:ext cx="2209680" cy="22096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pizzaro"/>
          <p:cNvPicPr/>
          <p:nvPr/>
        </p:nvPicPr>
        <p:blipFill>
          <a:blip r:embed="rId5"/>
          <a:stretch/>
        </p:blipFill>
        <p:spPr>
          <a:xfrm>
            <a:off x="152280" y="3886200"/>
            <a:ext cx="1844640" cy="26971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inca2"/>
          <p:cNvPicPr/>
          <p:nvPr/>
        </p:nvPicPr>
        <p:blipFill>
          <a:blip r:embed="rId6"/>
          <a:stretch/>
        </p:blipFill>
        <p:spPr>
          <a:xfrm>
            <a:off x="6858000" y="457200"/>
            <a:ext cx="1787400" cy="1940040"/>
          </a:xfrm>
          <a:prstGeom prst="rect">
            <a:avLst/>
          </a:prstGeom>
          <a:ln w="0">
            <a:noFill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hapter 24: Gloom, Doom, &amp; Cheer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anish gave the Indian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Pox and Meas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4" descr="small pox"/>
          <p:cNvPicPr/>
          <p:nvPr/>
        </p:nvPicPr>
        <p:blipFill>
          <a:blip r:embed="rId3"/>
          <a:stretch/>
        </p:blipFill>
        <p:spPr>
          <a:xfrm>
            <a:off x="380880" y="3124080"/>
            <a:ext cx="3810240" cy="27590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small pox 2"/>
          <p:cNvPicPr/>
          <p:nvPr/>
        </p:nvPicPr>
        <p:blipFill>
          <a:blip r:embed="rId4"/>
          <a:stretch/>
        </p:blipFill>
        <p:spPr>
          <a:xfrm>
            <a:off x="4572000" y="3352680"/>
            <a:ext cx="4343400" cy="262116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5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8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hapter 24: Gloom, Doom, &amp; Cheer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panish also gav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ig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uc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51-Univer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39-Printing Press to Mexico 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Picture 4" descr="cross"/>
          <p:cNvPicPr/>
          <p:nvPr/>
        </p:nvPicPr>
        <p:blipFill>
          <a:blip r:embed="rId6"/>
          <a:stretch/>
        </p:blipFill>
        <p:spPr>
          <a:xfrm>
            <a:off x="6477120" y="914400"/>
            <a:ext cx="2249280" cy="26859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5" descr="sp art 2"/>
          <p:cNvPicPr/>
          <p:nvPr/>
        </p:nvPicPr>
        <p:blipFill>
          <a:blip r:embed="rId7"/>
          <a:stretch/>
        </p:blipFill>
        <p:spPr>
          <a:xfrm>
            <a:off x="6705720" y="3733920"/>
            <a:ext cx="2139840" cy="27432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6" descr="span art"/>
          <p:cNvPicPr/>
          <p:nvPr/>
        </p:nvPicPr>
        <p:blipFill>
          <a:blip r:embed="rId8"/>
          <a:stretch/>
        </p:blipFill>
        <p:spPr>
          <a:xfrm>
            <a:off x="0" y="4114800"/>
            <a:ext cx="1647720" cy="2438280"/>
          </a:xfrm>
          <a:prstGeom prst="rect">
            <a:avLst/>
          </a:prstGeom>
          <a:ln w="0">
            <a:noFill/>
          </a:ln>
        </p:spPr>
      </p:pic>
      <p:sp>
        <p:nvSpPr>
          <p:cNvPr id="149" name="Місце для нижнього колонтитула 1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hapter 24: Gloom, Doom, &amp; Cheer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anish end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uman Sacrif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Picture 4" descr="aztecsacrifice"/>
          <p:cNvPicPr/>
          <p:nvPr/>
        </p:nvPicPr>
        <p:blipFill>
          <a:blip r:embed="rId3"/>
          <a:stretch/>
        </p:blipFill>
        <p:spPr>
          <a:xfrm>
            <a:off x="2209680" y="2895480"/>
            <a:ext cx="5867640" cy="3610080"/>
          </a:xfrm>
          <a:prstGeom prst="rect">
            <a:avLst/>
          </a:prstGeom>
          <a:ln w="0">
            <a:noFill/>
          </a:ln>
        </p:spPr>
      </p:pic>
      <p:sp>
        <p:nvSpPr>
          <p:cNvPr id="153" name="Місце для нижнього колонтитула 1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2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5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hapter 25: North of New Spain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lorers search for Cibo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 cities of go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nded by 7 prie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d to be in the nor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in Africa or Euro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Picture 4" descr="cibola"/>
          <p:cNvPicPr/>
          <p:nvPr/>
        </p:nvPicPr>
        <p:blipFill>
          <a:blip r:embed="rId5"/>
          <a:stretch/>
        </p:blipFill>
        <p:spPr>
          <a:xfrm>
            <a:off x="5334120" y="2895480"/>
            <a:ext cx="3394080" cy="3259080"/>
          </a:xfrm>
          <a:prstGeom prst="rect">
            <a:avLst/>
          </a:prstGeom>
          <a:ln w="0">
            <a:noFill/>
          </a:ln>
        </p:spPr>
      </p:pic>
      <p:sp>
        <p:nvSpPr>
          <p:cNvPr id="157" name="Місце для нижнього колонтитула 1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Esteban-</a:t>
            </a:r>
            <a:r>
              <a:rPr b="0" lang="en-US" sz="2800" spc="-1" strike="noStrike">
                <a:solidFill>
                  <a:srgbClr val="482400"/>
                </a:solidFill>
                <a:latin typeface="Times New Roman"/>
              </a:rPr>
              <a:t>sent by the mayor of Mexico City to find Cibola with Fray Marcos</a:t>
            </a:r>
            <a:endParaRPr b="0" lang="en-US" sz="28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77080" cy="46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 of 4 survivors from Narve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ptured by Indians (learned their cultur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lked to Mexico in 8 ye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d to many female followers for Fray Marc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 crosses to show Cibola f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illed when he sent Indians an symbol of w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cos went back to Mexico City and said they found Cibo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4" descr="gourd"/>
          <p:cNvPicPr/>
          <p:nvPr/>
        </p:nvPicPr>
        <p:blipFill>
          <a:blip r:embed="rId8"/>
          <a:stretch/>
        </p:blipFill>
        <p:spPr>
          <a:xfrm>
            <a:off x="7086600" y="990720"/>
            <a:ext cx="1828800" cy="1487520"/>
          </a:xfrm>
          <a:prstGeom prst="rect">
            <a:avLst/>
          </a:prstGeom>
          <a:ln w="0">
            <a:noFill/>
          </a:ln>
        </p:spPr>
      </p:pic>
      <p:sp>
        <p:nvSpPr>
          <p:cNvPr id="161" name="Місце для нижнього колонтитула 1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0" fill="hold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0" fill="hold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hapter 26:Looking for Cibola with Coronado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ronado: good leader/sold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540:leaves in search of Cibo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ts to Hawiku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eblo 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ck Indians out and take 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go west and discover the Grand Cany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Picture 4" descr="coro"/>
          <p:cNvPicPr/>
          <p:nvPr/>
        </p:nvPicPr>
        <p:blipFill>
          <a:blip r:embed="rId4"/>
          <a:stretch/>
        </p:blipFill>
        <p:spPr>
          <a:xfrm>
            <a:off x="7089840" y="1066680"/>
            <a:ext cx="1628640" cy="29718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gc"/>
          <p:cNvPicPr/>
          <p:nvPr/>
        </p:nvPicPr>
        <p:blipFill>
          <a:blip r:embed="rId5"/>
          <a:stretch/>
        </p:blipFill>
        <p:spPr>
          <a:xfrm>
            <a:off x="762120" y="4648320"/>
            <a:ext cx="3504960" cy="1752480"/>
          </a:xfrm>
          <a:prstGeom prst="rect">
            <a:avLst/>
          </a:prstGeom>
          <a:ln w="0">
            <a:noFill/>
          </a:ln>
        </p:spPr>
      </p:pic>
      <p:sp>
        <p:nvSpPr>
          <p:cNvPr id="166" name="Місце для нижнього колонтитула 1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1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4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7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0" dur="5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3" dur="5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6" dur="500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hapter 26:Looking for Cibola with Coronado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urk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Indian captured by the Spani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s sign language to communic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anish assume he’s telling them where the gold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kes them to Quivira-city full of mud hu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angled for ly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 wasn’t the gold and silver were underground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Picture 4" descr="hanging"/>
          <p:cNvPicPr/>
          <p:nvPr/>
        </p:nvPicPr>
        <p:blipFill>
          <a:blip r:embed="rId7"/>
          <a:stretch/>
        </p:blipFill>
        <p:spPr>
          <a:xfrm>
            <a:off x="0" y="4495680"/>
            <a:ext cx="1600200" cy="2079720"/>
          </a:xfrm>
          <a:prstGeom prst="rect">
            <a:avLst/>
          </a:prstGeom>
          <a:ln w="0">
            <a:noFill/>
          </a:ln>
        </p:spPr>
      </p:pic>
      <p:sp>
        <p:nvSpPr>
          <p:cNvPr id="170" name="Місце для нижнього колонтитула 1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hapter 27: California to Florida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540-1549:Spanish looking for Cibola all over! (California/Texas/Florid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39: De Soto- Florida (land of gol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s 200lbs of pearls on his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s in Peru w/Pizar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k over Indian vill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ills/tortures if they don’t give 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nd survivor from Narv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s the Mississippi R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ed of fever and was buried in the r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Picture 4" descr="miss riv"/>
          <p:cNvPicPr/>
          <p:nvPr/>
        </p:nvPicPr>
        <p:blipFill>
          <a:blip r:embed="rId8"/>
          <a:stretch/>
        </p:blipFill>
        <p:spPr>
          <a:xfrm>
            <a:off x="7170840" y="2362320"/>
            <a:ext cx="1973160" cy="29336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5" descr="pearls"/>
          <p:cNvPicPr/>
          <p:nvPr/>
        </p:nvPicPr>
        <p:blipFill>
          <a:blip r:embed="rId9"/>
          <a:stretch/>
        </p:blipFill>
        <p:spPr>
          <a:xfrm>
            <a:off x="0" y="5667480"/>
            <a:ext cx="1787400" cy="1190520"/>
          </a:xfrm>
          <a:prstGeom prst="rect">
            <a:avLst/>
          </a:prstGeom>
          <a:ln w="0">
            <a:noFill/>
          </a:ln>
        </p:spPr>
      </p:pic>
      <p:sp>
        <p:nvSpPr>
          <p:cNvPr id="175" name="Місце для нижнього колонтитула 1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hapter 27: California to Florida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540-Alacr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reach Californ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iled up the Gulf of California and Colorado River in the Grand Cany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524-Cabrillo (“lil goat”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lieved California was run by Griff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ed being chased by Indi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Picture 4" descr="gc"/>
          <p:cNvPicPr/>
          <p:nvPr/>
        </p:nvPicPr>
        <p:blipFill>
          <a:blip r:embed="rId7"/>
          <a:stretch/>
        </p:blipFill>
        <p:spPr>
          <a:xfrm>
            <a:off x="0" y="5410080"/>
            <a:ext cx="2438280" cy="14320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griffin2"/>
          <p:cNvPicPr/>
          <p:nvPr/>
        </p:nvPicPr>
        <p:blipFill>
          <a:blip r:embed="rId8"/>
          <a:stretch/>
        </p:blipFill>
        <p:spPr>
          <a:xfrm>
            <a:off x="6095880" y="4772160"/>
            <a:ext cx="3048120" cy="1969920"/>
          </a:xfrm>
          <a:prstGeom prst="rect">
            <a:avLst/>
          </a:prstGeom>
          <a:ln w="0">
            <a:noFill/>
          </a:ln>
        </p:spPr>
      </p:pic>
      <p:sp>
        <p:nvSpPr>
          <p:cNvPr id="180" name="Місце для нижнього колонтитула 1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67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0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hapter 21: Beliefs and Idea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6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entury~ Roman Catholic and Eastern Orthodox~only Christian relig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entury~Martin Lu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form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ts 95 complaints against the Catholic Chu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95 Thes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nds Protestantis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4" descr="martin_luther"/>
          <p:cNvPicPr/>
          <p:nvPr/>
        </p:nvPicPr>
        <p:blipFill>
          <a:blip r:embed="rId6"/>
          <a:stretch/>
        </p:blipFill>
        <p:spPr>
          <a:xfrm>
            <a:off x="6477120" y="4419720"/>
            <a:ext cx="2273040" cy="2438280"/>
          </a:xfrm>
          <a:prstGeom prst="rect">
            <a:avLst/>
          </a:prstGeom>
          <a:ln w="0">
            <a:noFill/>
          </a:ln>
        </p:spPr>
      </p:pic>
      <p:sp>
        <p:nvSpPr>
          <p:cNvPr id="100" name="Місце для нижнього колонтитула 1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hapter 28:A Place Called Santa </a:t>
            </a:r>
            <a:br>
              <a:rPr sz="4400"/>
            </a:b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           F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nded in 16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ilt on a platea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permanent European colony in North West Amer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630-60,000 Indians converted to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ristian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Picture 4" descr="cross"/>
          <p:cNvPicPr/>
          <p:nvPr/>
        </p:nvPicPr>
        <p:blipFill>
          <a:blip r:embed="rId5"/>
          <a:stretch/>
        </p:blipFill>
        <p:spPr>
          <a:xfrm>
            <a:off x="6975360" y="3581280"/>
            <a:ext cx="2168640" cy="32767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6" descr="sf2"/>
          <p:cNvPicPr/>
          <p:nvPr/>
        </p:nvPicPr>
        <p:blipFill>
          <a:blip r:embed="rId6"/>
          <a:stretch/>
        </p:blipFill>
        <p:spPr>
          <a:xfrm>
            <a:off x="4648320" y="914400"/>
            <a:ext cx="4208400" cy="19494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7" descr="sf3"/>
          <p:cNvPicPr/>
          <p:nvPr/>
        </p:nvPicPr>
        <p:blipFill>
          <a:blip r:embed="rId7"/>
          <a:stretch/>
        </p:blipFill>
        <p:spPr>
          <a:xfrm>
            <a:off x="380880" y="4464000"/>
            <a:ext cx="3200400" cy="2394000"/>
          </a:xfrm>
          <a:prstGeom prst="rect">
            <a:avLst/>
          </a:prstGeom>
          <a:ln w="0">
            <a:noFill/>
          </a:ln>
        </p:spPr>
      </p:pic>
      <p:sp>
        <p:nvSpPr>
          <p:cNvPr id="186" name="Місце для нижнього колонтитула 1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2" dur="indefinite" restart="never" nodeType="tmRoot">
          <p:childTnLst>
            <p:seq>
              <p:cTn id="703" dur="indefinite" nodeType="mainSeq">
                <p:childTnLst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hapter 29: Las Casas Cares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542-King Charles 1 outlaw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ndia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la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s Cas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d an Indian slave as a chi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12-became a priest &amp; owned sla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14-gave his slaves their freed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 1520- established Venezuela (peaceful are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tive Americans and Spani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482400"/>
              </a:buClr>
              <a:buFont typeface="Wingding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dn’t want to work toget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Picture 4" descr="crosses"/>
          <p:cNvPicPr/>
          <p:nvPr/>
        </p:nvPicPr>
        <p:blipFill>
          <a:blip r:embed="rId7"/>
          <a:stretch/>
        </p:blipFill>
        <p:spPr>
          <a:xfrm>
            <a:off x="5562720" y="4478400"/>
            <a:ext cx="3581280" cy="23796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5" descr="ven"/>
          <p:cNvPicPr/>
          <p:nvPr/>
        </p:nvPicPr>
        <p:blipFill>
          <a:blip r:embed="rId8"/>
          <a:stretch/>
        </p:blipFill>
        <p:spPr>
          <a:xfrm>
            <a:off x="-33480" y="2895480"/>
            <a:ext cx="1694160" cy="3962520"/>
          </a:xfrm>
          <a:prstGeom prst="rect">
            <a:avLst/>
          </a:prstGeom>
          <a:ln w="0">
            <a:noFill/>
          </a:ln>
        </p:spPr>
      </p:pic>
      <p:sp>
        <p:nvSpPr>
          <p:cNvPr id="191" name="Місце для нижнього колонтитула 1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7" dur="indefinite" restart="never" nodeType="tmRoot">
          <p:childTnLst>
            <p:seq>
              <p:cTn id="748" dur="indefinite" nodeType="mainSeq">
                <p:childTnLst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nodeType="clickEffect" fill="hold">
                      <p:stCondLst>
                        <p:cond delay="indefinite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nodeType="clickEffect" fill="hold">
                      <p:stCondLst>
                        <p:cond delay="indefinite"/>
                      </p:stCondLst>
                      <p:childTnLst>
                        <p:par>
                          <p:cTn id="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8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nodeType="clickEffect" fill="hold">
                      <p:stCondLst>
                        <p:cond delay="indefinite"/>
                      </p:stCondLst>
                      <p:childTnLst>
                        <p:par>
                          <p:cTn id="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hapter 29: Las Casas </a:t>
            </a:r>
            <a:br>
              <a:rPr sz="4400"/>
            </a:b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are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pulve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posed Las Casas opin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tive Americans “needed” Spani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laves were go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glish read about Spanish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 treat Native Americans differen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Picture 4" descr="in Sl 2"/>
          <p:cNvPicPr/>
          <p:nvPr/>
        </p:nvPicPr>
        <p:blipFill>
          <a:blip r:embed="rId6"/>
          <a:stretch/>
        </p:blipFill>
        <p:spPr>
          <a:xfrm>
            <a:off x="6781680" y="0"/>
            <a:ext cx="2362320" cy="23623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5" descr="in slav"/>
          <p:cNvPicPr/>
          <p:nvPr/>
        </p:nvPicPr>
        <p:blipFill>
          <a:blip r:embed="rId7"/>
          <a:stretch/>
        </p:blipFill>
        <p:spPr>
          <a:xfrm>
            <a:off x="114480" y="4495680"/>
            <a:ext cx="1596960" cy="23623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6" descr="brits"/>
          <p:cNvPicPr/>
          <p:nvPr/>
        </p:nvPicPr>
        <p:blipFill>
          <a:blip r:embed="rId8"/>
          <a:stretch/>
        </p:blipFill>
        <p:spPr>
          <a:xfrm>
            <a:off x="4800600" y="4981680"/>
            <a:ext cx="3733920" cy="1876320"/>
          </a:xfrm>
          <a:prstGeom prst="rect">
            <a:avLst/>
          </a:prstGeom>
          <a:ln w="0">
            <a:noFill/>
          </a:ln>
        </p:spPr>
      </p:pic>
      <p:sp>
        <p:nvSpPr>
          <p:cNvPr id="197" name="Місце для нижнього колонтитула 1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nodeType="clickEffect" fill="hold">
                      <p:stCondLst>
                        <p:cond delay="indefinite"/>
                      </p:stCondLst>
                      <p:childTnLst>
                        <p:par>
                          <p:cTn id="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50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50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nodeType="clickEffect" fill="hold">
                      <p:stCondLst>
                        <p:cond delay="indefinite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50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50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nodeType="clickEffect" fill="hold">
                      <p:stCondLst>
                        <p:cond delay="indefinite"/>
                      </p:stCondLst>
                      <p:childTnLst>
                        <p:par>
                          <p:cTn id="8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2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HE END!!!!!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Місце для нижнього колонтитула 1"/>
          <p:cNvSpPr/>
          <p:nvPr/>
        </p:nvSpPr>
        <p:spPr>
          <a:xfrm>
            <a:off x="350532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6" dur="indefinite" restart="never" nodeType="tmRoot">
          <p:childTnLst>
            <p:seq>
              <p:cTn id="857" dur="indefinite" nodeType="mainSeq">
                <p:childTnLst>
                  <p:par>
                    <p:cTn id="858" nodeType="clickEffect" fill="hold">
                      <p:stCondLst>
                        <p:cond delay="indefinite"/>
                      </p:stCondLst>
                      <p:childTnLst>
                        <p:par>
                          <p:cTn id="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ge of Re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time of change and refo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 religions forming (Protestantis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u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vel and expl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4" descr="methuen_4"/>
          <p:cNvPicPr/>
          <p:nvPr/>
        </p:nvPicPr>
        <p:blipFill>
          <a:blip r:embed="rId6"/>
          <a:stretch/>
        </p:blipFill>
        <p:spPr>
          <a:xfrm>
            <a:off x="5867280" y="3352680"/>
            <a:ext cx="2678400" cy="3200400"/>
          </a:xfrm>
          <a:prstGeom prst="rect">
            <a:avLst/>
          </a:prstGeom>
          <a:ln w="0">
            <a:noFill/>
          </a:ln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9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2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5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8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1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onvert, Leave, OR be Tortured and Die!!!!!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panish Inquis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en Isabella’s “special” religious cou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slims, Jews, and Pagans would have to convert to Christianit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conversion = leaving Spain or dy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4" descr="imagesCA3SV3YM"/>
          <p:cNvPicPr/>
          <p:nvPr/>
        </p:nvPicPr>
        <p:blipFill>
          <a:blip r:embed="rId5"/>
          <a:stretch/>
        </p:blipFill>
        <p:spPr>
          <a:xfrm>
            <a:off x="380880" y="4379760"/>
            <a:ext cx="3581640" cy="23767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inquisition1"/>
          <p:cNvPicPr/>
          <p:nvPr/>
        </p:nvPicPr>
        <p:blipFill>
          <a:blip r:embed="rId6"/>
          <a:stretch/>
        </p:blipFill>
        <p:spPr>
          <a:xfrm>
            <a:off x="1905120" y="7696080"/>
            <a:ext cx="1447560" cy="13575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inquisition2"/>
          <p:cNvPicPr/>
          <p:nvPr/>
        </p:nvPicPr>
        <p:blipFill>
          <a:blip r:embed="rId7"/>
          <a:stretch/>
        </p:blipFill>
        <p:spPr>
          <a:xfrm>
            <a:off x="4724280" y="4267080"/>
            <a:ext cx="4023000" cy="2438640"/>
          </a:xfrm>
          <a:prstGeom prst="rect">
            <a:avLst/>
          </a:prstGeom>
          <a:ln w="0">
            <a:noFill/>
          </a:ln>
        </p:spPr>
      </p:pic>
      <p:sp>
        <p:nvSpPr>
          <p:cNvPr id="110" name="Місце для нижнього колонтитула 1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New Spain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rnando Corte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ought to be a god (Quetzacoatl) by Montezu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veled with 900 peo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nk his own ship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ched towards Tenochtitla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4" descr="imagesCAB9DS40"/>
          <p:cNvPicPr/>
          <p:nvPr/>
        </p:nvPicPr>
        <p:blipFill>
          <a:blip r:embed="rId6"/>
          <a:stretch/>
        </p:blipFill>
        <p:spPr>
          <a:xfrm>
            <a:off x="6705720" y="0"/>
            <a:ext cx="2438280" cy="22906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imagesCAG2O0TE"/>
          <p:cNvPicPr/>
          <p:nvPr/>
        </p:nvPicPr>
        <p:blipFill>
          <a:blip r:embed="rId7"/>
          <a:stretch/>
        </p:blipFill>
        <p:spPr>
          <a:xfrm>
            <a:off x="0" y="4834080"/>
            <a:ext cx="3276720" cy="202392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A map of the Aztec Empir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4" descr="empmap1"/>
          <p:cNvPicPr/>
          <p:nvPr/>
        </p:nvPicPr>
        <p:blipFill>
          <a:blip r:embed="rId1"/>
          <a:stretch/>
        </p:blipFill>
        <p:spPr>
          <a:xfrm>
            <a:off x="1523880" y="1752480"/>
            <a:ext cx="6607440" cy="457200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ortez Marches Ahead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esn’t listen to Montezuma and marches towards Tenochtit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ilds army as he go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awe of c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oating gard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vate Zo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LD!!!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4" descr="zoo animals"/>
          <p:cNvPicPr/>
          <p:nvPr/>
        </p:nvPicPr>
        <p:blipFill>
          <a:blip r:embed="rId7"/>
          <a:stretch/>
        </p:blipFill>
        <p:spPr>
          <a:xfrm>
            <a:off x="6324480" y="2209680"/>
            <a:ext cx="2541600" cy="37339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gards"/>
          <p:cNvPicPr/>
          <p:nvPr/>
        </p:nvPicPr>
        <p:blipFill>
          <a:blip r:embed="rId8"/>
          <a:stretch/>
        </p:blipFill>
        <p:spPr>
          <a:xfrm>
            <a:off x="3581280" y="4633920"/>
            <a:ext cx="3200400" cy="2041560"/>
          </a:xfrm>
          <a:prstGeom prst="rect">
            <a:avLst/>
          </a:prstGeom>
          <a:ln w="0">
            <a:noFill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7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0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3" dur="5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he Aztecs fall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tezuma d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auhtemoc (the new Aztec leader) surrenders to the Spani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anish destroy the Aztec cul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ame Tenochtit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xico C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hapter 23: “Might Makes Right!”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nce de Le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an &amp; Bloodthirs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quered Puerto R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nd Flori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for all its flow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nd gold in Puerto R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ly shot with a poison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 dies from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4" descr="de leon"/>
          <p:cNvPicPr/>
          <p:nvPr/>
        </p:nvPicPr>
        <p:blipFill>
          <a:blip r:embed="rId7"/>
          <a:stretch/>
        </p:blipFill>
        <p:spPr>
          <a:xfrm>
            <a:off x="5943600" y="762120"/>
            <a:ext cx="2716200" cy="35049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fla flowers"/>
          <p:cNvPicPr/>
          <p:nvPr/>
        </p:nvPicPr>
        <p:blipFill>
          <a:blip r:embed="rId8"/>
          <a:stretch/>
        </p:blipFill>
        <p:spPr>
          <a:xfrm>
            <a:off x="0" y="2362320"/>
            <a:ext cx="1619280" cy="449568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1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7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0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3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6" dur="5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9" dur="5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2" dur="500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6T21:01:28Z</dcterms:created>
  <dc:creator>Alicia</dc:creator>
  <dc:description/>
  <dc:language>en-US</dc:language>
  <cp:lastModifiedBy>LEGION</cp:lastModifiedBy>
  <dcterms:modified xsi:type="dcterms:W3CDTF">2017-07-03T10:43:17Z</dcterms:modified>
  <cp:revision>75</cp:revision>
  <dc:subject/>
  <dc:title>Units 4 &amp; 5 </dc:title>
</cp:coreProperties>
</file>